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4FB-D0AC-4C24-84F1-7D89911B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99C-980D-4CB2-8F3F-4934730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5B4-4F61-4739-AC17-7A5D5043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42E-22D5-4F56-96AB-04DE3080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A3A-910E-4DEA-BA62-8B4C8F7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365-9D3F-4065-AC20-D8643674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B75-D8EC-4201-AAF5-425E86A2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D51-12F1-4BF4-A7D0-58399A99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2B1-3CF1-43B6-9B55-5E55D0C5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5F9-DFD8-477B-AF6E-6B589A7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489-7396-4DA0-92D6-C52CE02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68B-1FB1-4917-8EF1-5D69061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4C0F-BD0E-497F-ABD9-29F5BDB5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1.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7760" y="2036880"/>
            <a:ext cx="8988480" cy="278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14600" y="25909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aking conclusions based on patterns you 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276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 conclusion you reach by inductive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886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example that proves a statement fa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Rules for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3320" y="458640"/>
            <a:ext cx="8583480" cy="365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3392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ounterclock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657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048120"/>
            <a:ext cx="228600" cy="228600"/>
          </a:xfrm>
          <a:prstGeom prst="ellipse">
            <a:avLst/>
          </a:prstGeom>
          <a:solidFill>
            <a:srgbClr val="e818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763120" cy="2921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245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762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multiplying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btrac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5486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533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dictions and Counter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7652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 doesn’t have sides of equ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6360" y="152280"/>
            <a:ext cx="7999560" cy="670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2057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tart with 4 and add 5 repea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3623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tart with 3 and multiply by 3 repeate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352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tart with 1,1. Then each number is the sum of the previous two numb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4290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Start with 1 and tehn add 2 repeatedly.  9,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41972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029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Incorrect; 8 and  8  are not oppo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6019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511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6:33Z</dcterms:created>
  <dc:creator>Susannah Graham</dc:creator>
  <dc:description/>
  <dc:language>en-US</dc:language>
  <cp:lastModifiedBy>Graham</cp:lastModifiedBy>
  <dcterms:modified xsi:type="dcterms:W3CDTF">2011-08-18T12:58:02Z</dcterms:modified>
  <cp:revision>3</cp:revision>
  <dc:subject/>
  <dc:title>Lesson 5.7 Inductive Reasoning</dc:title>
</cp:coreProperties>
</file>